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4.wmf" ContentType="image/x-wmf"/>
  <Override PartName="/ppt/media/image10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.wmf" ContentType="image/x-wmf"/>
  <Override PartName="/ppt/media/image15.jpeg" ContentType="image/jpeg"/>
  <Override PartName="/ppt/media/image29.png" ContentType="image/png"/>
  <Override PartName="/ppt/media/image2.wmf" ContentType="image/x-wmf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859-4641-46BD-9D5E-190CAC1D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4D7-8E90-49C3-BC64-8E34EE9A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7D1-E6C7-452D-99BC-E283613C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D2A-3B9F-4494-887D-EC243E61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870-9A06-4F5F-B539-570A6D71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B8D9-A3BA-42F7-818B-7E7B4B36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9197-4803-4539-9220-2D144D4F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EE40-93F7-4740-B235-A0B9AD6A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BF4D-2F20-4521-8B44-F91C596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DA4F-97F6-4546-B90E-E515F108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BCA3-61AE-4BB1-BBB9-E07BE84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89C-F266-4AF6-9100-2250D7FE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FEF6-F507-4F2B-8C7B-306EBF9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3833-CD7B-4699-8E11-7C21427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EA63-726C-4B41-B76C-8708FFD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A5B1-83D0-4C1E-B0F6-1B123DC9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DB0C-B988-4861-8D8E-F01F27D3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7E0-52C4-4C9E-8ACF-E560C39F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71E-01C2-4641-8C62-ED8F3EF3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9B9-B16F-4B35-9DE4-30CE65DB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6DC-2F82-43BC-8772-15B96170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438-E580-4C83-AB57-686351D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A2E-8869-4F6D-9D75-6472ECA0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CC2-8D3E-4D5C-849D-0575089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B9D4-1DA0-4CDC-9701-5E1BFADFE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A753-8418-4CFB-936D-876E0B6A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btle Too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6120" y="1844640"/>
            <a:ext cx="2819520" cy="4254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70120" y="4449600"/>
            <a:ext cx="3273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ric Hain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desk Inc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rich@acm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407988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V – F/2 = 2 and 5030 fa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5030/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25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ore conclusions can be draw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27640" y="1693800"/>
            <a:ext cx="30830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 for polyhedra made of triang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3/2 * F, derived for any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F/2 = 2, for a polyh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E/3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nowing just the number of faces, edges, or vertices, you can get the other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~= F/2 ~= E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01480" y="2114640"/>
            <a:ext cx="7978680" cy="2709360"/>
            <a:chOff x="501480" y="2114640"/>
            <a:chExt cx="7978680" cy="270936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560280" y="2114640"/>
              <a:ext cx="191988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4540680" y="2114640"/>
              <a:ext cx="191988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2520720" y="2114640"/>
              <a:ext cx="192024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501480" y="2114640"/>
              <a:ext cx="1912680" cy="27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6458040" y="496260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tesy Stan Mel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Dec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3562200"/>
            <a:ext cx="7728120" cy="22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collapsing it and you get 1 less vertex, 2 less faces, and 3 less ed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V = change in F/2 = change in E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8240" y="1749600"/>
            <a:ext cx="236232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192"/>
                </a:moveTo>
                <a:lnTo>
                  <a:pt x="624" y="0"/>
                </a:lnTo>
                <a:lnTo>
                  <a:pt x="1104" y="96"/>
                </a:lnTo>
                <a:lnTo>
                  <a:pt x="1488" y="528"/>
                </a:lnTo>
                <a:lnTo>
                  <a:pt x="1152" y="1056"/>
                </a:lnTo>
                <a:lnTo>
                  <a:pt x="624" y="1056"/>
                </a:lnTo>
                <a:lnTo>
                  <a:pt x="96" y="864"/>
                </a:lnTo>
                <a:lnTo>
                  <a:pt x="0" y="19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190520" y="2587680"/>
            <a:ext cx="53352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037880" y="2054160"/>
            <a:ext cx="68580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724040" y="1749600"/>
            <a:ext cx="30492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24040" y="2587680"/>
            <a:ext cx="91440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38440" y="1901880"/>
            <a:ext cx="15228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2028600" y="1749240"/>
            <a:ext cx="609480" cy="9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38440" y="2587320"/>
            <a:ext cx="76212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38440" y="2739960"/>
            <a:ext cx="22860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028600" y="2739960"/>
            <a:ext cx="6094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24040" y="2587680"/>
            <a:ext cx="30492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95440" y="2130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38440" y="2282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67440" y="1673280"/>
            <a:ext cx="2362320" cy="167652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192"/>
                </a:moveTo>
                <a:lnTo>
                  <a:pt x="624" y="0"/>
                </a:lnTo>
                <a:lnTo>
                  <a:pt x="1104" y="96"/>
                </a:lnTo>
                <a:lnTo>
                  <a:pt x="1488" y="528"/>
                </a:lnTo>
                <a:lnTo>
                  <a:pt x="1152" y="1056"/>
                </a:lnTo>
                <a:lnTo>
                  <a:pt x="624" y="1056"/>
                </a:lnTo>
                <a:lnTo>
                  <a:pt x="96" y="864"/>
                </a:lnTo>
                <a:lnTo>
                  <a:pt x="0" y="19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219720" y="2511360"/>
            <a:ext cx="53352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6067080" y="1977840"/>
            <a:ext cx="685800" cy="533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753240" y="1673280"/>
            <a:ext cx="30492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53240" y="2511360"/>
            <a:ext cx="30492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24640" y="20541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6752880" y="2511000"/>
            <a:ext cx="114300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752880" y="2511360"/>
            <a:ext cx="16765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752880" y="1825560"/>
            <a:ext cx="10666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7760" y="2587680"/>
            <a:ext cx="1676160" cy="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87920" y="2068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F/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F ever be an odd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number of faces in a solid made of triangles must always be even. Surpris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id Mesh Properties,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035000" y="1676520"/>
            <a:ext cx="658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– E/3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ertex will have an average of almost six edges meeting at it. Easy for a regular me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is unobvious for an arbitrary me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id Mesh Properties,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65520" y="4664160"/>
            <a:ext cx="25164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2016000" y="2932200"/>
            <a:ext cx="4867200" cy="1225080"/>
            <a:chOff x="2016000" y="2932200"/>
            <a:chExt cx="4867200" cy="1225080"/>
          </a:xfrm>
        </p:grpSpPr>
        <p:sp>
          <p:nvSpPr>
            <p:cNvPr id="305" name=""/>
            <p:cNvSpPr/>
            <p:nvPr/>
          </p:nvSpPr>
          <p:spPr>
            <a:xfrm>
              <a:off x="2016000" y="2932200"/>
              <a:ext cx="4852800" cy="1215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1600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26800" y="333432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6800" y="37342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740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1988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4288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848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3176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460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3348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460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600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4964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4852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992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6184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244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610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624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6572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5632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38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760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68520" y="2932200"/>
              <a:ext cx="79416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69920" y="2932200"/>
              <a:ext cx="413280" cy="41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19240" y="3344040"/>
              <a:ext cx="805320" cy="80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19240" y="3756240"/>
              <a:ext cx="401400" cy="40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930320" y="4794120"/>
            <a:ext cx="16876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Polyhed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3357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iangular faces, V ~= F/2 ~= E/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quadrilateral meshes, V ~= F ~= E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V/F rises, the model has more quadrilaterals (or pentagons, hexagon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se properties hold only when the model is a single solid polyhedron, with no extraneous “doubled” vertices or 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3357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peline development: you now know the expected amount and connectivity of vertex vs. face data in any me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robustness check: you can quickly tell if a mesh is well-formed and so can be used for making shadow volumes and for other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: Point In Poly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ast way to test if a point is inside is to shoot a ray and count the crossings. An odd number of crossings means “insid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914560" y="3327480"/>
            <a:ext cx="339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540160" y="4108320"/>
            <a:ext cx="2960640" cy="2219400"/>
          </a:xfrm>
          <a:custGeom>
            <a:avLst/>
            <a:gdLst/>
            <a:ahLst/>
            <a:rect l="l" t="t" r="r" b="b"/>
            <a:pathLst>
              <a:path w="1865" h="1398">
                <a:moveTo>
                  <a:pt x="0" y="886"/>
                </a:moveTo>
                <a:lnTo>
                  <a:pt x="540" y="0"/>
                </a:lnTo>
                <a:lnTo>
                  <a:pt x="1353" y="685"/>
                </a:lnTo>
                <a:lnTo>
                  <a:pt x="1865" y="237"/>
                </a:lnTo>
                <a:lnTo>
                  <a:pt x="1536" y="1398"/>
                </a:lnTo>
                <a:lnTo>
                  <a:pt x="0" y="886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at a Verte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215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test ray crosses a vertex, how do you handl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iginal way: keep careful track of how each pair of edges approaches the 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89440" y="5187960"/>
            <a:ext cx="2790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08440" y="508968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13400" y="5108400"/>
            <a:ext cx="1569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11640" y="4054320"/>
            <a:ext cx="1569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410000"/>
            <a:ext cx="15732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97320" y="4121280"/>
            <a:ext cx="1276200" cy="10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673520" y="4483080"/>
            <a:ext cx="812880" cy="7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er than Moore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51000" y="2697120"/>
            <a:ext cx="2368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98960" y="2770200"/>
            <a:ext cx="21463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64400" y="3104640"/>
            <a:ext cx="2593800" cy="1467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3760" y="3708360"/>
            <a:ext cx="76320" cy="8780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667400" y="3708360"/>
            <a:ext cx="74520" cy="757080"/>
            <a:chOff x="4667400" y="3708360"/>
            <a:chExt cx="74520" cy="757080"/>
          </a:xfrm>
        </p:grpSpPr>
        <p:sp>
          <p:nvSpPr>
            <p:cNvPr id="92" name=""/>
            <p:cNvSpPr/>
            <p:nvPr/>
          </p:nvSpPr>
          <p:spPr>
            <a:xfrm>
              <a:off x="4667400" y="370836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67400" y="392472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67400" y="414108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67400" y="435744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V="1">
            <a:off x="2076480" y="3696840"/>
            <a:ext cx="2614680" cy="151308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9000" y="4836960"/>
            <a:ext cx="235080" cy="228600"/>
            <a:chOff x="1989000" y="4836960"/>
            <a:chExt cx="235080" cy="228600"/>
          </a:xfrm>
        </p:grpSpPr>
        <p:sp>
          <p:nvSpPr>
            <p:cNvPr id="98" name=""/>
            <p:cNvSpPr/>
            <p:nvPr/>
          </p:nvSpPr>
          <p:spPr>
            <a:xfrm>
              <a:off x="1989000" y="4836960"/>
              <a:ext cx="235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01600" y="4849200"/>
              <a:ext cx="172440" cy="16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2038320" y="1905120"/>
            <a:ext cx="6232680" cy="504720"/>
          </a:xfrm>
          <a:prstGeom prst="rect">
            <a:avLst/>
          </a:prstGeom>
          <a:solidFill>
            <a:srgbClr val="99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91160" y="2662200"/>
            <a:ext cx="3271680" cy="189864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9680" y="316548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a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760" y="334656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720" y="3527280"/>
            <a:ext cx="68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/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86640" y="5618160"/>
            <a:ext cx="37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2880" y="500544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 C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3200" y="51609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I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91440" y="486108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23560" y="433224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 V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4080" y="4657680"/>
            <a:ext cx="85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llar GS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5000" y="406728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VG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86840" y="428292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 TV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4600" y="38289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SkyWr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98120" y="4068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45608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&amp;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9800" y="46926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49640" y="1965240"/>
            <a:ext cx="40132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63760" y="2057400"/>
            <a:ext cx="385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Arial"/>
              </a:rPr>
              <a:t>One-pixel polygons (~10M polygons @ 30Hz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7240" y="4282920"/>
            <a:ext cx="24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44880" y="3960360"/>
            <a:ext cx="1800" cy="49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6680" y="4200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129280" y="3970080"/>
            <a:ext cx="1440" cy="27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24280" y="40212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gat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38320" y="5378400"/>
            <a:ext cx="664848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2752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1492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0376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9440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180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70640" y="5378400"/>
            <a:ext cx="180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960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84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058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50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88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727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19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493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26720" y="537840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26720" y="47293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926720" y="408132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26720" y="343044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926720" y="278136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1440" y="525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1160" y="522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1440" y="4608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11160" y="457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21440" y="3960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11160" y="3924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21440" y="3309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11160" y="327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21440" y="266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1160" y="262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21440" y="2013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11160" y="19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25720" y="2397240"/>
            <a:ext cx="6221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38320" y="1905120"/>
            <a:ext cx="1440" cy="3581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90880" y="4836960"/>
            <a:ext cx="75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 Pxp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148280" y="3600360"/>
            <a:ext cx="234720" cy="228600"/>
            <a:chOff x="4148280" y="3600360"/>
            <a:chExt cx="234720" cy="228600"/>
          </a:xfrm>
        </p:grpSpPr>
        <p:sp>
          <p:nvSpPr>
            <p:cNvPr id="160" name=""/>
            <p:cNvSpPr/>
            <p:nvPr/>
          </p:nvSpPr>
          <p:spPr>
            <a:xfrm>
              <a:off x="4148280" y="3600360"/>
              <a:ext cx="2347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4172760" y="3600360"/>
              <a:ext cx="160560" cy="1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302280" y="3587760"/>
            <a:ext cx="75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 Pxpl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15160" y="2841480"/>
            <a:ext cx="235080" cy="228600"/>
            <a:chOff x="6815160" y="2841480"/>
            <a:chExt cx="235080" cy="228600"/>
          </a:xfrm>
        </p:grpSpPr>
        <p:sp>
          <p:nvSpPr>
            <p:cNvPr id="164" name=""/>
            <p:cNvSpPr/>
            <p:nvPr/>
          </p:nvSpPr>
          <p:spPr>
            <a:xfrm>
              <a:off x="6815160" y="2841480"/>
              <a:ext cx="235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6840000" y="2841480"/>
              <a:ext cx="160200" cy="1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5465880" y="283068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/HP Pixel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14280" y="4356000"/>
            <a:ext cx="732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8080" y="4932360"/>
            <a:ext cx="782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ura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in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7640" y="489744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ali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1905120"/>
            <a:ext cx="1440" cy="3581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13360" y="2805120"/>
            <a:ext cx="17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lope ~2.4x/y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18400" y="3046320"/>
            <a:ext cx="206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(Moore's Law ~ 1.7x/y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7960" y="3154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6720" y="3286080"/>
            <a:ext cx="1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39120" y="33703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&amp;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5440" y="35035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00" y="2914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97720" y="300996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-Mon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4840" y="4513320"/>
            <a:ext cx="72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sion VP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67800" y="4189320"/>
            <a:ext cx="79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&amp;S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98480" y="37558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l/V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75360" y="386388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od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6680" y="36720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878360" y="3274920"/>
            <a:ext cx="827280" cy="588960"/>
          </a:xfrm>
          <a:prstGeom prst="line">
            <a:avLst/>
          </a:prstGeom>
          <a:ln w="28440">
            <a:solidFill>
              <a:srgbClr val="86868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4520" y="3417840"/>
            <a:ext cx="442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xpl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77600" y="4211640"/>
            <a:ext cx="107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37280" y="4621320"/>
            <a:ext cx="74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2520" y="3490920"/>
            <a:ext cx="36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ba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03400" y="33098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vidia T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8320" y="341784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La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52880" y="5942160"/>
            <a:ext cx="41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Graph courtesy of Professor John Poult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1840" y="5067360"/>
            <a:ext cx="939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6240" y="5213520"/>
            <a:ext cx="921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3520" y="4737240"/>
            <a:ext cx="9180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62320" y="4475160"/>
            <a:ext cx="9216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4595760"/>
            <a:ext cx="92160" cy="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360" y="4025880"/>
            <a:ext cx="9216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95840" y="4129200"/>
            <a:ext cx="9180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2560" y="388152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06920" y="4079880"/>
            <a:ext cx="921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90880"/>
            <a:ext cx="9360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78520" y="390384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87880" y="421020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2040" y="4408560"/>
            <a:ext cx="939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398304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75280" y="3713040"/>
            <a:ext cx="9216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07240" y="433872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75280" y="4487760"/>
            <a:ext cx="9216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8560" y="341964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8720" y="3419640"/>
            <a:ext cx="92160" cy="88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2680" y="376560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8640" y="3886200"/>
            <a:ext cx="93600" cy="8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8440" y="366084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2880" y="3492360"/>
            <a:ext cx="9360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3495600"/>
            <a:ext cx="93600" cy="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6160" y="354492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89720" y="289080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52200" y="3276720"/>
            <a:ext cx="49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Fo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546760" y="47293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546760" y="408132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546760" y="343044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546760" y="278136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546760" y="21337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33600" y="525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17920" y="522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733600" y="4608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17920" y="457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33600" y="3960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917920" y="3924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33600" y="3309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17920" y="327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733600" y="266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17920" y="262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33600" y="2013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17920" y="19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926720" y="21337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320040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05920" y="304812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52200" y="2743200"/>
            <a:ext cx="68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eon 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40160" y="4108320"/>
            <a:ext cx="2960640" cy="2219400"/>
          </a:xfrm>
          <a:custGeom>
            <a:avLst/>
            <a:gdLst/>
            <a:ahLst/>
            <a:rect l="l" t="t" r="r" b="b"/>
            <a:pathLst>
              <a:path w="1865" h="1398">
                <a:moveTo>
                  <a:pt x="0" y="886"/>
                </a:moveTo>
                <a:lnTo>
                  <a:pt x="540" y="0"/>
                </a:lnTo>
                <a:lnTo>
                  <a:pt x="1353" y="685"/>
                </a:lnTo>
                <a:lnTo>
                  <a:pt x="1865" y="237"/>
                </a:lnTo>
                <a:lnTo>
                  <a:pt x="1536" y="1398"/>
                </a:lnTo>
                <a:lnTo>
                  <a:pt x="0" y="886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: Never Hit the Vert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215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the ray as a divider instead of a set of points. Now every vertex is above or below the divider (“on” means “above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just deal with each edge by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89440" y="5187960"/>
            <a:ext cx="27907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08440" y="508968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13400" y="5108400"/>
            <a:ext cx="1569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702320" y="4863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11800" y="4238640"/>
            <a:ext cx="236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meril theory: kick it up a no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ed Again and Agai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figured out this technique around 1986. Posting to comp.graphics, I found a few people dismissing it as old 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it was never published any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r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ublish I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orst product name ever: Publish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 3D polygons cover a pixel. Drawing these in random order with a Z-buffer, what is the average number of times the color of the pixel is repla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78080" y="3919680"/>
            <a:ext cx="2598840" cy="2523960"/>
          </a:xfrm>
          <a:custGeom>
            <a:avLst/>
            <a:gdLst/>
            <a:ahLst/>
            <a:rect l="l" t="t" r="r" b="b"/>
            <a:pathLst>
              <a:path w="1637" h="1590">
                <a:moveTo>
                  <a:pt x="0" y="758"/>
                </a:moveTo>
                <a:lnTo>
                  <a:pt x="1637" y="0"/>
                </a:lnTo>
                <a:lnTo>
                  <a:pt x="1582" y="1590"/>
                </a:lnTo>
                <a:lnTo>
                  <a:pt x="0" y="758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5200" y="4368960"/>
            <a:ext cx="4151520" cy="1566720"/>
          </a:xfrm>
          <a:custGeom>
            <a:avLst/>
            <a:gdLst/>
            <a:ahLst/>
            <a:rect l="l" t="t" r="r" b="b"/>
            <a:pathLst>
              <a:path w="2615" h="987">
                <a:moveTo>
                  <a:pt x="2615" y="0"/>
                </a:moveTo>
                <a:lnTo>
                  <a:pt x="0" y="987"/>
                </a:lnTo>
                <a:lnTo>
                  <a:pt x="137" y="192"/>
                </a:lnTo>
                <a:lnTo>
                  <a:pt x="2615" y="0"/>
                </a:lnTo>
                <a:close/>
              </a:path>
            </a:pathLst>
          </a:cu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3875040"/>
            <a:ext cx="5980320" cy="2743200"/>
          </a:xfrm>
          <a:custGeom>
            <a:avLst/>
            <a:gdLst/>
            <a:ahLst/>
            <a:rect l="l" t="t" r="r" b="b"/>
            <a:pathLst>
              <a:path w="3767" h="1728">
                <a:moveTo>
                  <a:pt x="0" y="0"/>
                </a:moveTo>
                <a:lnTo>
                  <a:pt x="3767" y="942"/>
                </a:lnTo>
                <a:lnTo>
                  <a:pt x="393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79600" y="3875040"/>
            <a:ext cx="3309840" cy="2511360"/>
          </a:xfrm>
          <a:custGeom>
            <a:avLst/>
            <a:gdLst/>
            <a:ahLst/>
            <a:rect l="l" t="t" r="r" b="b"/>
            <a:pathLst>
              <a:path w="2085" h="1582">
                <a:moveTo>
                  <a:pt x="896" y="0"/>
                </a:moveTo>
                <a:lnTo>
                  <a:pt x="0" y="1582"/>
                </a:lnTo>
                <a:lnTo>
                  <a:pt x="2085" y="247"/>
                </a:lnTo>
                <a:lnTo>
                  <a:pt x="896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5040" y="4513320"/>
            <a:ext cx="1452600" cy="12492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22720" y="4876920"/>
            <a:ext cx="1247760" cy="1190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5440" y="4397400"/>
            <a:ext cx="1654200" cy="1639800"/>
          </a:xfrm>
          <a:prstGeom prst="plus">
            <a:avLst>
              <a:gd name="adj" fmla="val 25000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32200" y="4600440"/>
            <a:ext cx="1334880" cy="944640"/>
          </a:xfrm>
          <a:prstGeom prst="parallelogram">
            <a:avLst>
              <a:gd name="adj" fmla="val 353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56080" y="5138640"/>
            <a:ext cx="115920" cy="1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uitive, and Wrong,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ing front to back, I would paint the pixel once. Back to front, I would paint it ten times. So, the average is 5.5 dra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78080" y="3919680"/>
            <a:ext cx="2598840" cy="2523960"/>
          </a:xfrm>
          <a:custGeom>
            <a:avLst/>
            <a:gdLst/>
            <a:ahLst/>
            <a:rect l="l" t="t" r="r" b="b"/>
            <a:pathLst>
              <a:path w="1637" h="1590">
                <a:moveTo>
                  <a:pt x="0" y="758"/>
                </a:moveTo>
                <a:lnTo>
                  <a:pt x="1637" y="0"/>
                </a:lnTo>
                <a:lnTo>
                  <a:pt x="1582" y="1590"/>
                </a:lnTo>
                <a:lnTo>
                  <a:pt x="0" y="758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5200" y="4368960"/>
            <a:ext cx="4151520" cy="1566720"/>
          </a:xfrm>
          <a:custGeom>
            <a:avLst/>
            <a:gdLst/>
            <a:ahLst/>
            <a:rect l="l" t="t" r="r" b="b"/>
            <a:pathLst>
              <a:path w="2615" h="987">
                <a:moveTo>
                  <a:pt x="2615" y="0"/>
                </a:moveTo>
                <a:lnTo>
                  <a:pt x="0" y="987"/>
                </a:lnTo>
                <a:lnTo>
                  <a:pt x="137" y="192"/>
                </a:lnTo>
                <a:lnTo>
                  <a:pt x="2615" y="0"/>
                </a:lnTo>
                <a:close/>
              </a:path>
            </a:pathLst>
          </a:cu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54200" y="3875040"/>
            <a:ext cx="5980320" cy="2743200"/>
          </a:xfrm>
          <a:custGeom>
            <a:avLst/>
            <a:gdLst/>
            <a:ahLst/>
            <a:rect l="l" t="t" r="r" b="b"/>
            <a:pathLst>
              <a:path w="3767" h="1728">
                <a:moveTo>
                  <a:pt x="0" y="0"/>
                </a:moveTo>
                <a:lnTo>
                  <a:pt x="3767" y="942"/>
                </a:lnTo>
                <a:lnTo>
                  <a:pt x="393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79600" y="3875040"/>
            <a:ext cx="3309840" cy="2511360"/>
          </a:xfrm>
          <a:custGeom>
            <a:avLst/>
            <a:gdLst/>
            <a:ahLst/>
            <a:rect l="l" t="t" r="r" b="b"/>
            <a:pathLst>
              <a:path w="2085" h="1582">
                <a:moveTo>
                  <a:pt x="896" y="0"/>
                </a:moveTo>
                <a:lnTo>
                  <a:pt x="0" y="1582"/>
                </a:lnTo>
                <a:lnTo>
                  <a:pt x="2085" y="247"/>
                </a:lnTo>
                <a:lnTo>
                  <a:pt x="896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5040" y="4513320"/>
            <a:ext cx="1452600" cy="12492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22720" y="4876920"/>
            <a:ext cx="1247760" cy="1190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5440" y="4397400"/>
            <a:ext cx="1654200" cy="1639800"/>
          </a:xfrm>
          <a:prstGeom prst="plus">
            <a:avLst>
              <a:gd name="adj" fmla="val 25000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2200" y="4600440"/>
            <a:ext cx="1334880" cy="944640"/>
          </a:xfrm>
          <a:prstGeom prst="parallelogram">
            <a:avLst>
              <a:gd name="adj" fmla="val 353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56080" y="5138640"/>
            <a:ext cx="115920" cy="1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olygon drawn must cover pixel: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polygon drawn is in front or behind first polygon, 50/50, so chance is: 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polygon has one chance in three of being the closest polygon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+ 1/2 + 1/3 + …+ 1/10 = 2.9289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wly Growing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monic se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lowly grows to infin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243080" y="2841480"/>
          <a:ext cx="5094000" cy="3605400"/>
        </p:xfrm>
        <a:graphic>
          <a:graphicData uri="http://schemas.openxmlformats.org/drawingml/2006/table">
            <a:tbl>
              <a:tblPr/>
              <a:tblGrid>
                <a:gridCol w="2548080"/>
                <a:gridCol w="254592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dr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8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2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3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67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es Su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of harmonic series (for large 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s(N polygons) = ln(N) + 0.577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0.57721 value is called the Euler-Mascheroni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 to this overdraw question was first found by Cox and Hanrahan in 1993 (and later by Greene &amp; Whitted, and later by Haines, and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al (?)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k around and read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Case: Soft Sha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5320" y="1615680"/>
            <a:ext cx="453240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ckbert &amp; Herf: gives true penum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 overlapping shadows are usually unconvincing unless many passes are made. Shadows only on to (nearly) planar surfaces. No self-shad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594400" y="1450800"/>
            <a:ext cx="2724120" cy="2463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594400" y="3970440"/>
            <a:ext cx="2722680" cy="2211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826360" y="6186600"/>
            <a:ext cx="55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Images courtesy of Michael Herf and Paul Heck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79311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800" spc="-1" strike="noStrike">
                <a:solidFill>
                  <a:srgbClr val="000000"/>
                </a:solidFill>
                <a:latin typeface="Times New Roman"/>
              </a:rPr>
              <a:t>Soft Shadows: Heckbert &amp; Herf (1997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14400" y="1765440"/>
            <a:ext cx="8153280" cy="2044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58840" y="13730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2 x 2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760" y="6311880"/>
            <a:ext cx="55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Images courtesy of Michael Herf and Paul Heck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30040" y="3811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373800" y="3935520"/>
            <a:ext cx="2617920" cy="2617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24360" y="419256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6 x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4281480"/>
            <a:ext cx="0" cy="20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3948120"/>
            <a:ext cx="0" cy="25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Another Way: Soler &amp; Sillion (19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3240" y="1676160"/>
            <a:ext cx="391968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planar shadows. Mental shif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esulting texture by light shape, with kernel size based on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 no self-shadowing, and weak when occluder’s distance varies from rece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45040" y="1617840"/>
            <a:ext cx="2592360" cy="2124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933800" y="6037200"/>
            <a:ext cx="38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Images courtesy of Francois S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046840" y="3824280"/>
            <a:ext cx="26002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That Change (in past ye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rendering results are in floating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24 pixel shader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rithmetic ops: exp2, cos, lerp, pow, recip sqrt, floor, frac, max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texture accesses per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texture accesses, for dependent texture 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stated Penumbra (199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reate fast drop shadows with penumbra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ker, Shirley, &amp; Smits’ idea for raytrac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52480" y="3402000"/>
            <a:ext cx="3400560" cy="2970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165640" y="5996160"/>
            <a:ext cx="30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tesy of Brian S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o at Interactive Ra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 draw gradients of circles and rectangles/triangles on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ut how to draw the darkest gradient object when these gradients overl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768320" y="3903840"/>
            <a:ext cx="3046680" cy="24620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094360" y="5878440"/>
            <a:ext cx="31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ar pas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35000" y="1676520"/>
            <a:ext cx="77281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the 2D gradient objects as 3D objects in a Z-buffer. Darker = closer, so darkest object “wins” and i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704960" y="3274920"/>
            <a:ext cx="5016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au Shadows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9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: single pass, sharp to soft tran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receivers must be nearly flat, overstated umbrae, penumbrae are not physically correct, no self-shad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9360" y="3430440"/>
            <a:ext cx="34815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xt Step (2002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6996240" cy="14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arsson and Akenine-Möller’s penumbral wedges works for any receiver. Pixel shader interpolates the shade inside each w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486080" y="2971800"/>
            <a:ext cx="4663800" cy="34815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254640" y="5851440"/>
            <a:ext cx="23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tesy of Tomas Akenine-M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99360" y="3540240"/>
            <a:ext cx="21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your brick to the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 Different Next Step (200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140600" cy="14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an &amp; Hansen draw gradient geometry into a second buffer for the light source and can get soft shadows using the shadow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492200" y="3160800"/>
            <a:ext cx="3787920" cy="2887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470560" y="5775480"/>
            <a:ext cx="30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age courtesy Chris Wy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Yet Another Next Step (200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373880" cy="14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 &amp; Durand attach gradient rectangles directly to silhouette edges in the shadow buffer itself, avoiding 3D geometry cre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64320" y="3092400"/>
            <a:ext cx="2743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5 FPS, GeForce FX 5800 (unoptimized c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adow map: 1024x1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age: 640x480, but with FSAA antialiasing at 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e: Cg code in pap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6920" y="5994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age courtesy Eric C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463760" y="3182760"/>
            <a:ext cx="41371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randomly placed and oriented bounding box and sphere in a plan view of a room, which bounding volume will cover more pixels on aver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with the longer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with the larger surfac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with the larger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above; depends on the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2278080"/>
            <a:ext cx="1349280" cy="1117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6440" y="2496960"/>
            <a:ext cx="581040" cy="695520"/>
          </a:xfrm>
          <a:custGeom>
            <a:avLst/>
            <a:gdLst/>
            <a:ahLst/>
            <a:rect l="l" t="t" r="r" b="b"/>
            <a:pathLst>
              <a:path w="366" h="438">
                <a:moveTo>
                  <a:pt x="91" y="82"/>
                </a:moveTo>
                <a:lnTo>
                  <a:pt x="210" y="27"/>
                </a:lnTo>
                <a:lnTo>
                  <a:pt x="366" y="393"/>
                </a:lnTo>
                <a:lnTo>
                  <a:pt x="256" y="438"/>
                </a:lnTo>
                <a:lnTo>
                  <a:pt x="155" y="393"/>
                </a:lnTo>
                <a:lnTo>
                  <a:pt x="0" y="54"/>
                </a:lnTo>
                <a:lnTo>
                  <a:pt x="128" y="0"/>
                </a:lnTo>
                <a:lnTo>
                  <a:pt x="201" y="2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6440" y="2583000"/>
            <a:ext cx="392040" cy="595080"/>
          </a:xfrm>
          <a:custGeom>
            <a:avLst/>
            <a:gdLst/>
            <a:ahLst/>
            <a:rect l="l" t="t" r="r" b="b"/>
            <a:pathLst>
              <a:path w="247" h="375">
                <a:moveTo>
                  <a:pt x="0" y="0"/>
                </a:moveTo>
                <a:lnTo>
                  <a:pt x="91" y="28"/>
                </a:lnTo>
                <a:lnTo>
                  <a:pt x="247" y="3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89000" y="2554200"/>
            <a:ext cx="465120" cy="465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, then Ha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blem can be restated a number of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ffects the chance an arbitrary ray will hit a bounding volu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ffects the average projected area of a bounding volu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gher question: given some bounding volume, what is its average expected projected ar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86720" y="2743200"/>
            <a:ext cx="469800" cy="108000"/>
          </a:xfrm>
          <a:custGeom>
            <a:avLst/>
            <a:gdLst/>
            <a:ahLst/>
            <a:rect l="l" t="t" r="r" b="b"/>
            <a:pathLst>
              <a:path w="296" h="68">
                <a:moveTo>
                  <a:pt x="0" y="0"/>
                </a:moveTo>
                <a:lnTo>
                  <a:pt x="296" y="32"/>
                </a:lnTo>
                <a:lnTo>
                  <a:pt x="22" y="6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40320" y="2738520"/>
            <a:ext cx="581040" cy="257040"/>
          </a:xfrm>
          <a:custGeom>
            <a:avLst/>
            <a:gdLst/>
            <a:ahLst/>
            <a:rect l="l" t="t" r="r" b="b"/>
            <a:pathLst>
              <a:path w="366" h="162">
                <a:moveTo>
                  <a:pt x="0" y="162"/>
                </a:moveTo>
                <a:lnTo>
                  <a:pt x="210" y="0"/>
                </a:lnTo>
                <a:lnTo>
                  <a:pt x="366" y="51"/>
                </a:lnTo>
                <a:lnTo>
                  <a:pt x="0" y="162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1462600">
            <a:off x="6514920" y="3646080"/>
            <a:ext cx="987120" cy="1001880"/>
          </a:xfrm>
          <a:custGeom>
            <a:avLst/>
            <a:gdLst/>
            <a:ahLst/>
            <a:rect l="l" t="t" r="r" b="b"/>
            <a:pathLst>
              <a:path w="540" h="649">
                <a:moveTo>
                  <a:pt x="156" y="0"/>
                </a:moveTo>
                <a:lnTo>
                  <a:pt x="540" y="430"/>
                </a:lnTo>
                <a:lnTo>
                  <a:pt x="0" y="649"/>
                </a:lnTo>
                <a:lnTo>
                  <a:pt x="156" y="0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formal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537516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 of a given equilateral triangle to its average projection is some constant (though unknown)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riangles, at the limit, can be tessellated into equilateral triangles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ame for all tri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nvex objects can be tessellated into tri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42120" y="1741320"/>
            <a:ext cx="595080" cy="378000"/>
          </a:xfrm>
          <a:custGeom>
            <a:avLst/>
            <a:gdLst/>
            <a:ahLst/>
            <a:rect l="l" t="t" r="r" b="b"/>
            <a:pathLst>
              <a:path w="375" h="238">
                <a:moveTo>
                  <a:pt x="211" y="0"/>
                </a:moveTo>
                <a:lnTo>
                  <a:pt x="0" y="238"/>
                </a:lnTo>
                <a:lnTo>
                  <a:pt x="375" y="137"/>
                </a:lnTo>
                <a:lnTo>
                  <a:pt x="211" y="0"/>
                </a:lnTo>
                <a:close/>
              </a:path>
            </a:pathLst>
          </a:cu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05360" y="2598840"/>
            <a:ext cx="1625760" cy="550800"/>
          </a:xfrm>
          <a:custGeom>
            <a:avLst/>
            <a:gdLst/>
            <a:ahLst/>
            <a:rect l="l" t="t" r="r" b="b"/>
            <a:pathLst>
              <a:path w="1024" h="347">
                <a:moveTo>
                  <a:pt x="0" y="347"/>
                </a:moveTo>
                <a:lnTo>
                  <a:pt x="366" y="0"/>
                </a:lnTo>
                <a:lnTo>
                  <a:pt x="1024" y="0"/>
                </a:lnTo>
                <a:lnTo>
                  <a:pt x="658" y="347"/>
                </a:lnTo>
                <a:lnTo>
                  <a:pt x="0" y="34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42120" y="2119320"/>
            <a:ext cx="0" cy="871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23160" y="1944720"/>
            <a:ext cx="0" cy="8859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76920" y="2031840"/>
            <a:ext cx="0" cy="711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76920" y="1741320"/>
            <a:ext cx="0" cy="276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1462600">
            <a:off x="7504200" y="3948120"/>
            <a:ext cx="328680" cy="333360"/>
          </a:xfrm>
          <a:custGeom>
            <a:avLst/>
            <a:gdLst/>
            <a:ahLst/>
            <a:rect l="l" t="t" r="r" b="b"/>
            <a:pathLst>
              <a:path w="540" h="649">
                <a:moveTo>
                  <a:pt x="156" y="0"/>
                </a:moveTo>
                <a:lnTo>
                  <a:pt x="540" y="430"/>
                </a:lnTo>
                <a:lnTo>
                  <a:pt x="0" y="649"/>
                </a:lnTo>
                <a:lnTo>
                  <a:pt x="156" y="0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7248600" y="3952800"/>
            <a:ext cx="333360" cy="108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48600" y="3857760"/>
            <a:ext cx="291960" cy="196560"/>
          </a:xfrm>
          <a:custGeom>
            <a:avLst/>
            <a:gdLst/>
            <a:ahLst/>
            <a:rect l="l" t="t" r="r" b="b"/>
            <a:pathLst>
              <a:path w="184" h="124">
                <a:moveTo>
                  <a:pt x="0" y="124"/>
                </a:moveTo>
                <a:lnTo>
                  <a:pt x="44" y="0"/>
                </a:lnTo>
                <a:lnTo>
                  <a:pt x="134" y="84"/>
                </a:lnTo>
                <a:lnTo>
                  <a:pt x="150" y="38"/>
                </a:lnTo>
                <a:lnTo>
                  <a:pt x="182" y="68"/>
                </a:lnTo>
                <a:lnTo>
                  <a:pt x="184" y="5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64280" y="3781440"/>
            <a:ext cx="254160" cy="123840"/>
          </a:xfrm>
          <a:custGeom>
            <a:avLst/>
            <a:gdLst/>
            <a:ahLst/>
            <a:rect l="l" t="t" r="r" b="b"/>
            <a:pathLst>
              <a:path w="160" h="78">
                <a:moveTo>
                  <a:pt x="160" y="46"/>
                </a:moveTo>
                <a:lnTo>
                  <a:pt x="0" y="78"/>
                </a:lnTo>
                <a:lnTo>
                  <a:pt x="28" y="0"/>
                </a:lnTo>
                <a:lnTo>
                  <a:pt x="84" y="62"/>
                </a:lnTo>
                <a:lnTo>
                  <a:pt x="100" y="28"/>
                </a:lnTo>
                <a:lnTo>
                  <a:pt x="124" y="5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404120" y="3911760"/>
            <a:ext cx="76320" cy="25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165800" y="3819600"/>
            <a:ext cx="51120" cy="19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53400" y="3736800"/>
            <a:ext cx="152280" cy="63720"/>
          </a:xfrm>
          <a:custGeom>
            <a:avLst/>
            <a:gdLst/>
            <a:ahLst/>
            <a:rect l="l" t="t" r="r" b="b"/>
            <a:pathLst>
              <a:path w="96" h="40">
                <a:moveTo>
                  <a:pt x="96" y="24"/>
                </a:moveTo>
                <a:lnTo>
                  <a:pt x="0" y="40"/>
                </a:lnTo>
                <a:lnTo>
                  <a:pt x="12" y="0"/>
                </a:lnTo>
                <a:lnTo>
                  <a:pt x="38" y="34"/>
                </a:lnTo>
                <a:lnTo>
                  <a:pt x="50" y="10"/>
                </a:lnTo>
                <a:lnTo>
                  <a:pt x="64" y="3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892920" y="3727440"/>
            <a:ext cx="76320" cy="15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289400"/>
            <a:ext cx="422280" cy="241200"/>
          </a:xfrm>
          <a:custGeom>
            <a:avLst/>
            <a:gdLst/>
            <a:ahLst/>
            <a:rect l="l" t="t" r="r" b="b"/>
            <a:pathLst>
              <a:path w="266" h="152">
                <a:moveTo>
                  <a:pt x="266" y="0"/>
                </a:moveTo>
                <a:lnTo>
                  <a:pt x="240" y="110"/>
                </a:lnTo>
                <a:lnTo>
                  <a:pt x="164" y="40"/>
                </a:lnTo>
                <a:lnTo>
                  <a:pt x="140" y="134"/>
                </a:lnTo>
                <a:lnTo>
                  <a:pt x="72" y="76"/>
                </a:lnTo>
                <a:lnTo>
                  <a:pt x="48" y="152"/>
                </a:lnTo>
                <a:lnTo>
                  <a:pt x="0" y="104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24600" y="4457880"/>
            <a:ext cx="158760" cy="110880"/>
          </a:xfrm>
          <a:custGeom>
            <a:avLst/>
            <a:gdLst/>
            <a:ahLst/>
            <a:rect l="l" t="t" r="r" b="b"/>
            <a:pathLst>
              <a:path w="100" h="70">
                <a:moveTo>
                  <a:pt x="100" y="0"/>
                </a:moveTo>
                <a:lnTo>
                  <a:pt x="82" y="58"/>
                </a:lnTo>
                <a:lnTo>
                  <a:pt x="44" y="20"/>
                </a:lnTo>
                <a:lnTo>
                  <a:pt x="30" y="70"/>
                </a:lnTo>
                <a:lnTo>
                  <a:pt x="0" y="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308720" y="4435560"/>
            <a:ext cx="123840" cy="63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165800" y="4473720"/>
            <a:ext cx="111240" cy="56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064280" y="4511160"/>
            <a:ext cx="76320" cy="41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08880" y="4095720"/>
            <a:ext cx="723960" cy="324000"/>
          </a:xfrm>
          <a:custGeom>
            <a:avLst/>
            <a:gdLst/>
            <a:ahLst/>
            <a:rect l="l" t="t" r="r" b="b"/>
            <a:pathLst>
              <a:path w="456" h="204">
                <a:moveTo>
                  <a:pt x="0" y="122"/>
                </a:moveTo>
                <a:lnTo>
                  <a:pt x="96" y="204"/>
                </a:lnTo>
                <a:lnTo>
                  <a:pt x="128" y="72"/>
                </a:lnTo>
                <a:lnTo>
                  <a:pt x="244" y="170"/>
                </a:lnTo>
                <a:lnTo>
                  <a:pt x="286" y="0"/>
                </a:lnTo>
                <a:lnTo>
                  <a:pt x="440" y="124"/>
                </a:lnTo>
                <a:lnTo>
                  <a:pt x="456" y="64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832880" y="4098960"/>
            <a:ext cx="152280" cy="63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835760" y="4057560"/>
            <a:ext cx="25560" cy="101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470720" y="4394160"/>
            <a:ext cx="158760" cy="6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664400" y="4334040"/>
            <a:ext cx="200160" cy="85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896240" y="4195800"/>
            <a:ext cx="339840" cy="163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24680" y="2598840"/>
            <a:ext cx="1625760" cy="550800"/>
          </a:xfrm>
          <a:custGeom>
            <a:avLst/>
            <a:gdLst/>
            <a:ahLst/>
            <a:rect l="l" t="t" r="r" b="b"/>
            <a:pathLst>
              <a:path w="1024" h="347">
                <a:moveTo>
                  <a:pt x="0" y="347"/>
                </a:moveTo>
                <a:lnTo>
                  <a:pt x="366" y="0"/>
                </a:lnTo>
                <a:lnTo>
                  <a:pt x="1024" y="0"/>
                </a:lnTo>
                <a:lnTo>
                  <a:pt x="658" y="347"/>
                </a:lnTo>
                <a:lnTo>
                  <a:pt x="0" y="34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26320" y="2173320"/>
            <a:ext cx="0" cy="6811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56520" y="1916280"/>
            <a:ext cx="0" cy="885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88160" y="1805040"/>
            <a:ext cx="0" cy="9428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3200" y="1800360"/>
            <a:ext cx="463320" cy="376200"/>
          </a:xfrm>
          <a:custGeom>
            <a:avLst/>
            <a:gdLst/>
            <a:ahLst/>
            <a:rect l="l" t="t" r="r" b="b"/>
            <a:pathLst>
              <a:path w="292" h="237">
                <a:moveTo>
                  <a:pt x="0" y="0"/>
                </a:moveTo>
                <a:lnTo>
                  <a:pt x="18" y="237"/>
                </a:lnTo>
                <a:lnTo>
                  <a:pt x="292" y="73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26200" y="17575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72440" y="175752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758000" y="4048200"/>
            <a:ext cx="100080" cy="42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7758000" y="4028760"/>
            <a:ext cx="14400" cy="6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124480" y="4167360"/>
            <a:ext cx="33480" cy="142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862760" y="4057560"/>
            <a:ext cx="66960" cy="61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34280" y="4200480"/>
            <a:ext cx="66600" cy="61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8082000" y="4167360"/>
            <a:ext cx="61920" cy="23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72280" y="4276800"/>
            <a:ext cx="43200" cy="33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31120" y="3657600"/>
            <a:ext cx="1858680" cy="1015920"/>
          </a:xfrm>
          <a:custGeom>
            <a:avLst/>
            <a:gdLst/>
            <a:ahLst/>
            <a:rect l="l" t="t" r="r" b="b"/>
            <a:pathLst>
              <a:path w="1171" h="640">
                <a:moveTo>
                  <a:pt x="156" y="0"/>
                </a:moveTo>
                <a:lnTo>
                  <a:pt x="0" y="640"/>
                </a:lnTo>
                <a:lnTo>
                  <a:pt x="1171" y="375"/>
                </a:lnTo>
                <a:lnTo>
                  <a:pt x="156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6160" y="595008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lution by Han-Wen Nienhu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That Are (Nearly) Con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: Optics, Radiometry, Phot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ptual Psych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cience – specifically, established computer graphics algorithms an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new ideas are discovered, or old ideas are applied in new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 rot="20640000">
            <a:off x="6961320" y="5358960"/>
            <a:ext cx="880920" cy="333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523260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nvex objects have a depth complexity of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here is a convex object. Surface area is 4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*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e clever bit): A sphere’s projected area is always the same, a circl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*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155600">
            <a:off x="6984720" y="1730160"/>
            <a:ext cx="1001520" cy="93024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11800" y="2220840"/>
            <a:ext cx="2249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6560" y="212724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915320" y="2128680"/>
            <a:ext cx="200160" cy="198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11800" y="1828800"/>
            <a:ext cx="2249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72480" y="173520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11920" y="1736640"/>
            <a:ext cx="20016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96240" y="4165560"/>
            <a:ext cx="826920" cy="82728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89800" y="5268960"/>
            <a:ext cx="1625400" cy="550800"/>
          </a:xfrm>
          <a:custGeom>
            <a:avLst/>
            <a:gdLst/>
            <a:ahLst/>
            <a:rect l="l" t="t" r="r" b="b"/>
            <a:pathLst>
              <a:path w="1024" h="347">
                <a:moveTo>
                  <a:pt x="0" y="347"/>
                </a:moveTo>
                <a:lnTo>
                  <a:pt x="366" y="0"/>
                </a:lnTo>
                <a:lnTo>
                  <a:pt x="1024" y="0"/>
                </a:lnTo>
                <a:lnTo>
                  <a:pt x="658" y="347"/>
                </a:lnTo>
                <a:lnTo>
                  <a:pt x="0" y="34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81840" y="4543560"/>
            <a:ext cx="0" cy="11318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37560" y="4543560"/>
            <a:ext cx="0" cy="826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96240" y="4543560"/>
            <a:ext cx="812520" cy="215640"/>
          </a:xfrm>
          <a:custGeom>
            <a:avLst/>
            <a:gdLst/>
            <a:ahLst/>
            <a:rect l="l" t="t" r="r" b="b"/>
            <a:pathLst>
              <a:path w="512" h="136">
                <a:moveTo>
                  <a:pt x="0" y="9"/>
                </a:moveTo>
                <a:cubicBezTo>
                  <a:pt x="39" y="55"/>
                  <a:pt x="79" y="102"/>
                  <a:pt x="146" y="119"/>
                </a:cubicBezTo>
                <a:cubicBezTo>
                  <a:pt x="213" y="136"/>
                  <a:pt x="341" y="129"/>
                  <a:pt x="402" y="109"/>
                </a:cubicBezTo>
                <a:cubicBezTo>
                  <a:pt x="463" y="89"/>
                  <a:pt x="487" y="44"/>
                  <a:pt x="5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11800" y="2641680"/>
            <a:ext cx="2249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92880" y="2548080"/>
            <a:ext cx="20016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69160" y="2549520"/>
            <a:ext cx="20016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Fin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56936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a sphere’s projected area is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ts surface area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2*¼ (for the 2 sides)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, this answer applies to all convex objects and polyg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x object projects average of 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rfac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gon projects an average of ½ its surfac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pheres of differing radii are moving at different speeds and different directions. They may collide somewhere. W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622600" y="3305160"/>
            <a:ext cx="3541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One: Relative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velocity vector from both objects. 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p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955880" y="2938320"/>
            <a:ext cx="50324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Two: Radius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radiu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ubtrac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orks because at intersection the cent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way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way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e problem is a ray/sphere inter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795320" y="3813120"/>
            <a:ext cx="3498840" cy="24512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 flipH="1">
            <a:off x="3629160" y="4834080"/>
            <a:ext cx="652320" cy="564840"/>
          </a:xfrm>
          <a:prstGeom prst="line">
            <a:avLst/>
          </a:prstGeom>
          <a:ln w="2844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033800" y="4816440"/>
            <a:ext cx="1625760" cy="320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24160" y="4995720"/>
            <a:ext cx="789120" cy="8049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73600" y="4587840"/>
            <a:ext cx="25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of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2960" y="5095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Use: Sphere/Poly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ving sphere and a moving polygon become a ray and a static blobby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724040" y="2825640"/>
            <a:ext cx="6210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Use: Sphere/Frust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22360" y="3714840"/>
            <a:ext cx="7991280" cy="2520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035000" y="1676520"/>
            <a:ext cx="77281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here gets added to the frustum, expanding the surface. Rather than dealing with curved corners, overestimate and simply push each frustum side out &amp; in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 Question #5 (Bonus Ques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xis-aligned cube goes from 0,0,0 to 1,1,1. Cut it with three planes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Into how many pieces is the cube cu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17800" y="3846600"/>
            <a:ext cx="1900080" cy="1900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017800" y="3425760"/>
            <a:ext cx="0" cy="232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17800" y="5748480"/>
            <a:ext cx="26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17800" y="3862080"/>
            <a:ext cx="1886040" cy="1886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38720" y="5108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60640" y="32227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30680" y="57769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19280" y="36482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47760" y="428004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ybe helps (but not really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90880" y="4165560"/>
            <a:ext cx="1900080" cy="19004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090880" y="3005280"/>
            <a:ext cx="0" cy="306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90880" y="6067440"/>
            <a:ext cx="378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090880" y="4181040"/>
            <a:ext cx="1885680" cy="1886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42120" y="5440320"/>
            <a:ext cx="5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20920" y="2903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75040" y="3700440"/>
            <a:ext cx="2700000" cy="465120"/>
          </a:xfrm>
          <a:custGeom>
            <a:avLst/>
            <a:gdLst/>
            <a:ahLst/>
            <a:rect l="l" t="t" r="r" b="b"/>
            <a:pathLst>
              <a:path w="1701" h="293">
                <a:moveTo>
                  <a:pt x="0" y="293"/>
                </a:moveTo>
                <a:lnTo>
                  <a:pt x="650" y="0"/>
                </a:lnTo>
                <a:lnTo>
                  <a:pt x="1701" y="0"/>
                </a:lnTo>
                <a:lnTo>
                  <a:pt x="1198" y="293"/>
                </a:lnTo>
                <a:lnTo>
                  <a:pt x="0" y="293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90960" y="3700440"/>
            <a:ext cx="784080" cy="2367000"/>
          </a:xfrm>
          <a:custGeom>
            <a:avLst/>
            <a:gdLst/>
            <a:ahLst/>
            <a:rect l="l" t="t" r="r" b="b"/>
            <a:pathLst>
              <a:path w="494" h="1491">
                <a:moveTo>
                  <a:pt x="0" y="1491"/>
                </a:moveTo>
                <a:lnTo>
                  <a:pt x="494" y="1198"/>
                </a:lnTo>
                <a:lnTo>
                  <a:pt x="494" y="0"/>
                </a:lnTo>
                <a:lnTo>
                  <a:pt x="0" y="284"/>
                </a:lnTo>
                <a:lnTo>
                  <a:pt x="0" y="1491"/>
                </a:lnTo>
                <a:close/>
              </a:path>
            </a:pathLst>
          </a:cu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005000" y="3714840"/>
            <a:ext cx="755640" cy="2338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090880" y="3716280"/>
            <a:ext cx="2670120" cy="44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62120" y="389556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1440" y="61009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79520" y="45705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60600" y="28656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18120" y="472284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4427280" y="4847760"/>
            <a:ext cx="623880" cy="18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75040" y="3309840"/>
            <a:ext cx="49356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Another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down the axis 1,1,1 to 0,0,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7950800">
            <a:off x="2870280" y="3479400"/>
            <a:ext cx="1060200" cy="1800360"/>
          </a:xfrm>
          <a:custGeom>
            <a:avLst/>
            <a:gdLst/>
            <a:ahLst/>
            <a:rect l="l" t="t" r="r" b="b"/>
            <a:pathLst>
              <a:path w="668" h="1134">
                <a:moveTo>
                  <a:pt x="668" y="0"/>
                </a:moveTo>
                <a:lnTo>
                  <a:pt x="668" y="759"/>
                </a:lnTo>
                <a:lnTo>
                  <a:pt x="0" y="1134"/>
                </a:lnTo>
                <a:lnTo>
                  <a:pt x="0" y="366"/>
                </a:lnTo>
                <a:lnTo>
                  <a:pt x="668" y="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7950800">
            <a:off x="3392280" y="2560320"/>
            <a:ext cx="1044720" cy="1800360"/>
          </a:xfrm>
          <a:custGeom>
            <a:avLst/>
            <a:gdLst/>
            <a:ahLst/>
            <a:rect l="l" t="t" r="r" b="b"/>
            <a:pathLst>
              <a:path w="658" h="1134">
                <a:moveTo>
                  <a:pt x="0" y="0"/>
                </a:moveTo>
                <a:lnTo>
                  <a:pt x="0" y="750"/>
                </a:lnTo>
                <a:lnTo>
                  <a:pt x="658" y="1134"/>
                </a:lnTo>
                <a:lnTo>
                  <a:pt x="658" y="375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7950800">
            <a:off x="3384360" y="3768480"/>
            <a:ext cx="2119320" cy="1204920"/>
          </a:xfrm>
          <a:custGeom>
            <a:avLst/>
            <a:gdLst/>
            <a:ahLst/>
            <a:rect l="l" t="t" r="r" b="b"/>
            <a:pathLst>
              <a:path w="1335" h="759">
                <a:moveTo>
                  <a:pt x="0" y="375"/>
                </a:moveTo>
                <a:lnTo>
                  <a:pt x="677" y="0"/>
                </a:lnTo>
                <a:lnTo>
                  <a:pt x="1335" y="375"/>
                </a:lnTo>
                <a:lnTo>
                  <a:pt x="677" y="759"/>
                </a:lnTo>
                <a:lnTo>
                  <a:pt x="0" y="375"/>
                </a:lnTo>
                <a:close/>
              </a:path>
            </a:pathLst>
          </a:custGeom>
          <a:solidFill>
            <a:srgbClr val="86868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19680" y="2336760"/>
            <a:ext cx="12600" cy="359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93960" y="2908440"/>
            <a:ext cx="4149720" cy="2381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670040" y="2786040"/>
            <a:ext cx="4392720" cy="262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4520" y="4645080"/>
            <a:ext cx="563400" cy="3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266560" y="4680000"/>
            <a:ext cx="528840" cy="3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87920" y="44100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82640" y="45007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48240" y="24462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08480" y="35560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71720" y="5181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25920" y="51973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24000" y="36226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78200" y="24620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50760" y="5462640"/>
            <a:ext cx="11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3000" y="591984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0800" y="536904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50000" y="538308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lution by Ben Trumb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s Galore – old, yet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3640" y="1657440"/>
            <a:ext cx="39718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-buffer - Carpenter, 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-buffer - Saito &amp; Takahashi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-buffer - Schneider &amp; Rossignac, 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uffer - Yuan &amp; Sun,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-buffer - Hsiung, Thibadeau &amp; Wu,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-buffer - 3dfx, 1996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buffer - Catmull, 1973 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Z-buffer - Salesin &amp; Stolfi, 1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ion Buffer - Haeberli &amp; Akeley,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a Sampling Buffer - Sung, 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Buffer - Baum, Cohen, Wallace &amp; Greenberg, 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se Objects Buffer - Telea &amp; van Overveld,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r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ositing Buffer - Lau &amp; Wiseman,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Scan Buffer - Tanaka &amp; Takahashi,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ta Z Buffer - Yamamoto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th Buffer - 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th-Interval Buffer - Rossignac &amp; Wu, 1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uble Buffer -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26000" y="1657440"/>
            <a:ext cx="39718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cape Buffer - Hepting &amp; Hart, 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ame Buffer - Kajiya, Sutherland &amp; Cheadle, 1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erarchical Z-Buffer - Greene,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em Buffer - Weghorst, Hooper &amp; Greenberg, 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ght Buffer - Haines &amp; Greenberg, 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h Buffer - Deering, 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l Buffer - Curington, 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cture Buffer - Ollis &amp; Borgwardt, 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xel Buffer - Peachey, 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y Distribution Buffer - Shinya,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y-Z-Buffer - Lamparter, Muller &amp; Winckler,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eshing Buffer - Basil, 1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ple Buffer - Ke &amp; Change,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dow Buffer - GIMP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eet Buffer - Mueller &amp; Crawfis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ncil Buffer - 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er Buffer - Gharachorloo &amp; Pottle, 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er-Plane Buffer - Zhou &amp; Peng, 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iple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deo Buffer - Scherson &amp; Punte, 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ume Buffer - Sramek &amp; Kaufman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different stuff and talk to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 anything that’s worthw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ke a de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vide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ke web pages for your results (e.g. Stanford’s website: papers, projects, cool demos, slides, dat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bmit related articles to Game Developer, Gamasutr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ess releases to Computer Graphics Worl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ive talks about the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 (but not too mu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ces To Pub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more to the world than SIG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results: Journal of Graphics Tools, maybe IEEE Computer Graphics &amp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s: EG Symposium on Rendering, I3D, Graphics Interface, NPAR, Eurographic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papers: ACM TOG, IEEE TVC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 work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me Programming G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ok series, Game Developer magazine, Gamasu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a’s boo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o Sol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inhaus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ematical Snapsh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nguin Dictionary of Curious and Interesting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book’s site: http://www.realtimerendering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Research: old &amp;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hardware archite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ampling &amp; filtering (e.g. Quincun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-order surfaces (e.g. subdiv surfa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ing the dog to play chess (or, staying on the superhighwa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ver use of hardware’s new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how people think about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lid model is made of 5030 triangles. How many vertices does it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0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27640" y="1693800"/>
            <a:ext cx="30830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artes-Euler Polyhedral Form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rmal solid polyhed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es + Faces – Edges – 2 * Holes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for a simple model w/5030 Faces, we then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es – Edges = 2 – 50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es = Edges – 50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w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that each edge is shared by 2 triangles, and each triangle has 3 ed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3/2 *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substituting this into V+F-E=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+ F – 3/2 * F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F/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06880" y="2787480"/>
            <a:ext cx="1117800" cy="1001880"/>
          </a:xfrm>
          <a:custGeom>
            <a:avLst/>
            <a:gdLst/>
            <a:ahLst/>
            <a:rect l="l" t="t" r="r" b="b"/>
            <a:pathLst>
              <a:path w="704" h="631">
                <a:moveTo>
                  <a:pt x="0" y="311"/>
                </a:moveTo>
                <a:lnTo>
                  <a:pt x="667" y="0"/>
                </a:lnTo>
                <a:lnTo>
                  <a:pt x="704" y="631"/>
                </a:lnTo>
                <a:lnTo>
                  <a:pt x="0" y="311"/>
                </a:lnTo>
                <a:close/>
              </a:path>
            </a:pathLst>
          </a:cu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7240" y="3135240"/>
            <a:ext cx="333360" cy="120600"/>
          </a:xfrm>
          <a:custGeom>
            <a:avLst/>
            <a:gdLst/>
            <a:ahLst/>
            <a:rect l="l" t="t" r="r" b="b"/>
            <a:pathLst>
              <a:path w="210" h="104">
                <a:moveTo>
                  <a:pt x="0" y="104"/>
                </a:moveTo>
                <a:cubicBezTo>
                  <a:pt x="37" y="55"/>
                  <a:pt x="74" y="6"/>
                  <a:pt x="109" y="3"/>
                </a:cubicBezTo>
                <a:cubicBezTo>
                  <a:pt x="144" y="0"/>
                  <a:pt x="177" y="43"/>
                  <a:pt x="210" y="86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603600">
            <a:off x="5328720" y="3014640"/>
            <a:ext cx="333360" cy="120600"/>
          </a:xfrm>
          <a:custGeom>
            <a:avLst/>
            <a:gdLst/>
            <a:ahLst/>
            <a:rect l="l" t="t" r="r" b="b"/>
            <a:pathLst>
              <a:path w="210" h="104">
                <a:moveTo>
                  <a:pt x="0" y="104"/>
                </a:moveTo>
                <a:cubicBezTo>
                  <a:pt x="37" y="55"/>
                  <a:pt x="74" y="6"/>
                  <a:pt x="109" y="3"/>
                </a:cubicBezTo>
                <a:cubicBezTo>
                  <a:pt x="144" y="0"/>
                  <a:pt x="177" y="43"/>
                  <a:pt x="210" y="86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7810400">
            <a:off x="5443200" y="3484080"/>
            <a:ext cx="333360" cy="120960"/>
          </a:xfrm>
          <a:custGeom>
            <a:avLst/>
            <a:gdLst/>
            <a:ahLst/>
            <a:rect l="l" t="t" r="r" b="b"/>
            <a:pathLst>
              <a:path w="210" h="104">
                <a:moveTo>
                  <a:pt x="0" y="104"/>
                </a:moveTo>
                <a:cubicBezTo>
                  <a:pt x="37" y="55"/>
                  <a:pt x="74" y="6"/>
                  <a:pt x="109" y="3"/>
                </a:cubicBezTo>
                <a:cubicBezTo>
                  <a:pt x="144" y="0"/>
                  <a:pt x="177" y="43"/>
                  <a:pt x="210" y="86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1:52:47Z</dcterms:created>
  <dc:creator>Eric Haines</dc:creator>
  <dc:description/>
  <dc:language>en-US</dc:language>
  <cp:lastModifiedBy>Eric Haines</cp:lastModifiedBy>
  <cp:lastPrinted>1999-09-21T14:29:21Z</cp:lastPrinted>
  <dcterms:modified xsi:type="dcterms:W3CDTF">2003-06-19T18:46:04Z</dcterms:modified>
  <cp:revision>122</cp:revision>
  <dc:subject>algorithms, July 2003</dc:subject>
  <dc:title>Subtle Tools</dc:title>
</cp:coreProperties>
</file>